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8FF-EF15-4E35-968E-D9E384FDE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5AD0-3638-4796-A05E-1128F2E3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C96D-F231-4CE6-9658-8F66915E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3EF1-1E08-40BC-97B2-16FFE7FB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2F7B-C928-44BF-BEA7-1836BA75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286D-1ED7-4A43-A696-B9C3C28A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97C-FEFB-487F-9900-4A7BF0D1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378A-6C85-43F7-B93F-89BF2744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F9C4-D0E8-4C47-BEE3-DAE1DF5E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4D88-ECC2-4551-BD6E-CA5ECA9B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79C9-8BA9-49EF-8632-827F53F3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AA81-18A4-4FE3-A9C1-1FA6E05C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535-C43C-46B0-B2BB-606441E2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2AB-15D6-4FE2-833A-E23C6C2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D27-322D-4E3E-8A6D-95E43585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7AE-C76B-4C98-A316-2FCF13FE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4E38-4AFF-4B80-8F21-F590E9A3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1D34-1A26-4AFD-86F3-66CAA73F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F54B-1AD3-49EE-AC95-822AE1A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FB79-BACC-4E7B-BC28-269926EC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D0ED-C494-4612-8275-00A51029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A506-1CEF-4090-9925-4979BF7C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3AFF-2503-4FFF-B3F2-C0F00D5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70B-E720-477F-964C-7149908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A53E-4732-4D99-966D-87DA0609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0337-AC83-460B-807A-68F61EA5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F9AE-A8D7-46BB-8AAA-AC7539C3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2656-58F1-4001-BEA1-D97A9562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366E-048D-4893-A601-2025FEC2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FF4-DA48-4095-A362-7EF2D2AC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352-E6AB-4004-93D8-DE0602C0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2E6-FCB6-4960-9771-7E73D8B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CB9-012B-4E3A-8324-F36CE282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D51-A861-4570-BC59-5C6F3BA4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2E1-9E5F-4A3D-9EC3-16D2F8FA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FBD-3370-4D1B-AA3E-7FB808A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83F6-A3E5-48DB-842D-D7A88A250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B58F-4E30-4067-95A4-540FAC20FCE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 and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lipped Classro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git De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urse Material: Neue Horizon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cover text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rback workbook/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resources—some via purchased access 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college.cengage.com/languages/german/dollenmayer/neue_horizonte/7e/student_home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for text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flash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for lab 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story on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rading Compon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attendance/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allowed absences; each additional absence reduces attendance/participation grade by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assignments count as online attend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% ho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ly workbook/lab 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speaking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l grammar drills, worksheet to ensure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writing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ycled as oral presentations for chapter quiz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quizzes (including fi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ational Metho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cour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re to learn like Mood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sebuilder with all lectures, assignments, handout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per chap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on Outline (with links to publisher’s online mate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aking Exercises (assignment sh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cabulary Quiz (10 chapter quiz wo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ing Sample Drop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he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grade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lways knew their expected final 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line Sessions and Ho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ctures on gramm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ed with textbook in language and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he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racticing content of Power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answer keys for self-correc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book dialogues with corresponding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l grammar drills with matching workshe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c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line Sessions and Homework Continu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r’s Online Practice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shcards with a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ltural video with workshe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cabulary Qui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 new vocabulary words from each qu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material covered in chap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ycled as oral presentation for each qu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room S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ttend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and correct homework with answer key or sometimes as class exer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efly summarize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all concepts with textbook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ntroduce and practice minor topics i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students give oral presentations based on writing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understood that not coming to class meant they had more work outside the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took responsibility for self-directed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did not complain about work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given the choice of having quizzes during class time or outside the classroom, they unanimously chose the additional meet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valued time in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ere not confused about assign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always knew what to do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teach a blended class with flipped classroom again—effective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course material: online workbook/lab manual, physical textbook and access to an online textboo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uld eliminate lengthy checking of ho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uld use freed-up class time for free-response oral assig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answer key to textbook exercises—”traditional” students ask for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students would like more cla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for increasing student enroll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 of classroom instruction is replaced by online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classroom session replaced every other we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only come to class two weekends out of the semes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thing in betw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is online, lab is on campus (Nazareth College Anatomy and Physiolog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been in existence so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known as hybrid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pic at 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Language Association (NeMLA) Conference 2013 at Tuf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ended Learning in the Foreign Language and Literature Classroom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nemla.org/convention/2013/friday_pm.html#track9.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ld Campus: Innovation in Hybrid Online Language Course Development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nemla.org/convention/2013/saturday_am.html#track11.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mocha Webinar February 27, 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 Practices for Blended Learning in Language Classroo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lipped Classroom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ctures are placed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has lecture video-recor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captures computer screen with Camtas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uses Power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has students watch course material tuto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study grammar and vocabulary before they come to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time is used for interactive assignments, workbook exercises, and communicativ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combined with blended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lipped Classroom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pic at 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 East Association for Language Learning Technology (NEALLT) Conference 2013 at Corn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ped Classroo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neallt.org/neallt2013/index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LA Conference 2013 at Tuf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ping the classroom’: Using Technology to Free Vital Class Tim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nemla.org/convention/2013/sunday.html#track17.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Graw-Hill Higher Ed Webinar March 28, 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Flipped Classroom Model to Increase Student Engagement and Result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ional Cho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cture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introduces new material i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do textbook exercises/handouts i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do workbook/lab manual exercises or practice assignments as ho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read new material at home, may complete select textbook exercises before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lectures and students practice textbook exercises/handouts i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do workbook/lab manual exercises or practice assignments as ho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ion Choices Continu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ip the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introduced to new material in self-study outside the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practice new grammatical concepts and vocabulary outside the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clarifies/answers questions regarding concepts in the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spend classroom time on interactive exercises from textbook and workbook/lab manual, on communicative assignments like role play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urse Frame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weeks of instruction with 4 sessions per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of 4 weekly sessions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introductory German chapters (chapters 6-10 of 15), about 28 textbook pages per chap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quizzes every 2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topics are German universities, travel, living in the city, environment, Germany in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concepts include present perfect and simple past tenses, dative and genitive cases, coordinating and subordinating conjunctions, attributive endings, miscella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commended Progress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Lear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new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new grammar and vocabulary in structured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grammar and vocabulary in interactive exercises with free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w concepts in unscripted, communicative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00:52:50Z</dcterms:created>
  <dc:creator>Information Technology Services</dc:creator>
  <dc:description/>
  <dc:language>en-US</dc:language>
  <cp:lastModifiedBy>bdeir9</cp:lastModifiedBy>
  <dcterms:modified xsi:type="dcterms:W3CDTF">2014-03-07T19:07:10Z</dcterms:modified>
  <cp:revision>220</cp:revision>
  <dc:subject/>
  <dc:title>Slide 1</dc:title>
</cp:coreProperties>
</file>